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5840" cy="372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54720" cy="446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6AF7-C0A3-4A36-8DBF-1884D9484AEB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5840" cy="3726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547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CEC1-C015-4E4F-A60A-30757DB45DFD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5840" cy="3726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547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74A3-1A71-4291-8A14-3293130E5526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5840" cy="3726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547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31BA-6E13-4E0B-95A6-BD4A7B256DE8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5840" cy="3726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547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Espace réservé du numéro de diapositive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E515-422D-411F-BBE1-C284F96FF774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5840" cy="3726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547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46C8-C357-41DD-966A-396B415E73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5840" cy="3726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547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Espace réservé du numéro de diapositive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EE1A-963D-4E31-8537-7997935110C6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5840" cy="3726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547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42E2-D908-4FAB-9D8B-3F819C51C8E8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F07F-5AAF-47FE-9EB7-6331B747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F040-85E6-4D5A-8415-7F59F8B5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0ACD-0009-4BEE-AA8A-521338BF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E792-0822-49CD-8D15-F6D130CB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7469-23A6-49EE-8435-F2C0EEB6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E82D-9F98-484E-894D-3BE84B29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F703-6291-47A6-9D55-AE43DA57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764A-40F7-4CA0-A3FD-9B42203D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4D8C-F006-4598-93E5-2D09F58C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B5CC-37D9-41D3-8BFB-155EB28A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4887-144B-4F5F-B86F-D8F9D748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B7B-D49A-4E1E-92F2-C100D3EC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23F0-C286-43DD-967D-675B12E2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7D22-6BAD-48B3-9BF6-996C2C60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052E-41C6-4503-8BC0-BCC1B707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5448-A464-4DAD-8879-C23BF188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90CE-7C67-42A0-8A8A-87652A89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A1C-09A5-4399-88B5-84BCF47F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7ADD-FFA4-4C3A-A443-EE3ECEA2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D5EF-3926-4F76-BE06-295E2364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270-89CE-412B-937F-66347E10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120-D6B9-46A6-81D5-043CFFE0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2E6-3202-413E-A6AD-5EF8E30B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987A-2F2D-4443-98C8-5C8FCBBB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F817-B350-4EE2-8D79-87EA12B20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C758-89CC-4697-A045-0400C8D046E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Débat National de l'Energie _ Contexte Energétique Tunis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C7DE-ED4E-4D8A-80AC-25C6C13138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mailto:elkhazen@anme.nat.tn" TargetMode="External"/><Relationship Id="rId3" Type="http://schemas.openxmlformats.org/officeDocument/2006/relationships/hyperlink" Target="http://www.anme.nat.tn/" TargetMode="Externa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à coins arrondis 5"/>
          <p:cNvGrpSpPr/>
          <p:nvPr/>
        </p:nvGrpSpPr>
        <p:grpSpPr>
          <a:xfrm>
            <a:off x="152280" y="1536840"/>
            <a:ext cx="8759880" cy="2895480"/>
            <a:chOff x="152280" y="1536840"/>
            <a:chExt cx="8759880" cy="2895480"/>
          </a:xfrm>
        </p:grpSpPr>
        <p:pic>
          <p:nvPicPr>
            <p:cNvPr id="90" name="Rectangle à coins arrondis 5" descr=""/>
            <p:cNvPicPr/>
            <p:nvPr/>
          </p:nvPicPr>
          <p:blipFill>
            <a:blip r:embed="rId1"/>
            <a:stretch/>
          </p:blipFill>
          <p:spPr>
            <a:xfrm>
              <a:off x="152280" y="1536840"/>
              <a:ext cx="875988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51000" y="1708200"/>
              <a:ext cx="8370720" cy="25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376092"/>
                  </a:solidFill>
                  <a:latin typeface="Arial Narrow"/>
                </a:rPr>
                <a:t>Opportunités de développement de l’énergie photovoltaïque :</a:t>
              </a:r>
              <a:br>
                <a:rPr sz="3200"/>
              </a:br>
              <a:r>
                <a:rPr b="1" lang="fr-FR" sz="3200" spc="-1" strike="noStrike">
                  <a:solidFill>
                    <a:srgbClr val="376092"/>
                  </a:solidFill>
                  <a:latin typeface="Arial Narrow"/>
                </a:rPr>
                <a:t>Cadre réglementaire et mesures d’encouragement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Connecteur droit 11"/>
          <p:cNvSpPr/>
          <p:nvPr/>
        </p:nvSpPr>
        <p:spPr>
          <a:xfrm>
            <a:off x="826920" y="4280040"/>
            <a:ext cx="76327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857160" y="4640400"/>
            <a:ext cx="485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gency FB"/>
              </a:rPr>
              <a:t>Karim NEF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gency FB"/>
              </a:rPr>
              <a:t>Agence Nationale pour la Maîtrise de l’E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893880" y="5805360"/>
            <a:ext cx="7821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gency FB"/>
              </a:rPr>
              <a:t>«OPPORTUNITÉS DE DÉVELOPPEMENT DU SOLAIRE PHOTOVOLTAÏQUE DANS LES SECTEURS AGRICOLE ET AGROALIMENTAIRE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gency FB"/>
              </a:rPr>
              <a:t>SIAT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gency FB"/>
              </a:rPr>
              <a:t>PARC DES EXPOSITIONS DU KRAM, 20.10.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2"/>
          <a:stretch/>
        </p:blipFill>
        <p:spPr>
          <a:xfrm>
            <a:off x="30240" y="44280"/>
            <a:ext cx="9078840" cy="1675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199980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76092"/>
                </a:solidFill>
                <a:latin typeface="Calibri"/>
              </a:rPr>
              <a:t>LA LOI SUR LA PRODUCTION DE L’ÉLECTRICITÉ À PARTIR DES ÉNERGIES RENOUVELABLES</a:t>
            </a:r>
            <a:br>
              <a:rPr sz="3600"/>
            </a:br>
            <a:r>
              <a:rPr b="1" i="1" lang="fr-FR" sz="2400" spc="-1" strike="noStrike">
                <a:solidFill>
                  <a:srgbClr val="c00000"/>
                </a:solidFill>
                <a:latin typeface="Calibri"/>
              </a:rPr>
              <a:t>LOI N°12-2015 DU 11 MAI 2015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324000" y="1104480"/>
            <a:ext cx="8388360" cy="1191240"/>
          </a:xfrm>
          <a:prstGeom prst="rect">
            <a:avLst/>
          </a:prstGeom>
          <a:noFill/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L’importance des investissements exige le recours aux sources de financement favorables à travers les différents mécanismes de la coopération internationale et la participation du secteur privé au financement et la réalisation des projets, en particulier les projets de production d’électricité renouvelable centralisé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Diagramme 15" descr=""/>
          <p:cNvPicPr/>
          <p:nvPr/>
        </p:nvPicPr>
        <p:blipFill>
          <a:blip r:embed="rId1"/>
          <a:stretch/>
        </p:blipFill>
        <p:spPr>
          <a:xfrm>
            <a:off x="2030400" y="2475000"/>
            <a:ext cx="5065560" cy="17622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6"/>
          <p:cNvSpPr/>
          <p:nvPr/>
        </p:nvSpPr>
        <p:spPr>
          <a:xfrm>
            <a:off x="468360" y="4437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Nécessité de la mise en place d’un cadre réglementaire favorisant la mobilisation des investissements privés pour l’atteinte de l’objectif fixé pour le développement des énergies renouvel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e 17"/>
          <p:cNvGrpSpPr/>
          <p:nvPr/>
        </p:nvGrpSpPr>
        <p:grpSpPr>
          <a:xfrm>
            <a:off x="900000" y="5661000"/>
            <a:ext cx="7632720" cy="714240"/>
            <a:chOff x="900000" y="5661000"/>
            <a:chExt cx="7632720" cy="714240"/>
          </a:xfrm>
        </p:grpSpPr>
        <p:sp>
          <p:nvSpPr>
            <p:cNvPr id="196" name="Rectangle 18"/>
            <p:cNvSpPr/>
            <p:nvPr/>
          </p:nvSpPr>
          <p:spPr>
            <a:xfrm>
              <a:off x="900000" y="5661000"/>
              <a:ext cx="7632720" cy="71424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9"/>
            <p:cNvSpPr/>
            <p:nvPr/>
          </p:nvSpPr>
          <p:spPr>
            <a:xfrm>
              <a:off x="900000" y="5661000"/>
              <a:ext cx="76327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40" rIns="12240" tIns="12240" bIns="12240" anchor="ctr">
              <a:noAutofit/>
            </a:bodyPr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Calibri"/>
                </a:rPr>
                <a:t>LA LOI SUR LA PRODUCTION DE L’ÉLECTRICITÉ À PARTIR DES ÉNERGIES RENOUVELA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fffff"/>
                  </a:solidFill>
                  <a:latin typeface="Calibri"/>
                </a:rPr>
                <a:t>LOI N°12-2015 DU 11 MAI 20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Flèche droite 20"/>
          <p:cNvSpPr/>
          <p:nvPr/>
        </p:nvSpPr>
        <p:spPr>
          <a:xfrm>
            <a:off x="395280" y="5805360"/>
            <a:ext cx="431640" cy="503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66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1"/>
          <p:cNvSpPr/>
          <p:nvPr/>
        </p:nvSpPr>
        <p:spPr>
          <a:xfrm>
            <a:off x="519120" y="16020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  <a:ea typeface="Arial"/>
              </a:rPr>
              <a:t>Les Investisseurs Potent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onnecteur droit 10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Diagramme 1" descr=""/>
          <p:cNvPicPr/>
          <p:nvPr/>
        </p:nvPicPr>
        <p:blipFill>
          <a:blip r:embed="rId1"/>
          <a:stretch/>
        </p:blipFill>
        <p:spPr>
          <a:xfrm>
            <a:off x="414360" y="792000"/>
            <a:ext cx="8040600" cy="4980240"/>
          </a:xfrm>
          <a:prstGeom prst="rect">
            <a:avLst/>
          </a:prstGeom>
          <a:ln w="0">
            <a:noFill/>
          </a:ln>
        </p:spPr>
      </p:pic>
      <p:sp>
        <p:nvSpPr>
          <p:cNvPr id="202" name="Accolade fermante 4"/>
          <p:cNvSpPr/>
          <p:nvPr/>
        </p:nvSpPr>
        <p:spPr>
          <a:xfrm rot="5400000">
            <a:off x="2447280" y="3929040"/>
            <a:ext cx="287640" cy="3529080"/>
          </a:xfrm>
          <a:custGeom>
            <a:avLst/>
            <a:gdLst>
              <a:gd name="textAreaLeft" fmla="*/ 0 w 287640"/>
              <a:gd name="textAreaRight" fmla="*/ 103680 w 287640"/>
              <a:gd name="textAreaTop" fmla="*/ 7200 h 3529080"/>
              <a:gd name="textAreaBottom" fmla="*/ 352188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4"/>
                  <a:pt x="10800" y="147"/>
                </a:cubicBezTo>
                <a:lnTo>
                  <a:pt x="10800" y="10653"/>
                </a:lnTo>
                <a:cubicBezTo>
                  <a:pt x="10800" y="10727"/>
                  <a:pt x="16200" y="10800"/>
                  <a:pt x="21600" y="10800"/>
                </a:cubicBezTo>
                <a:cubicBezTo>
                  <a:pt x="16200" y="10800"/>
                  <a:pt x="10800" y="10874"/>
                  <a:pt x="10800" y="10947"/>
                </a:cubicBezTo>
                <a:lnTo>
                  <a:pt x="10800" y="21453"/>
                </a:lnTo>
                <a:cubicBezTo>
                  <a:pt x="10800" y="2152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bbb5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ccolade fermante 5"/>
          <p:cNvSpPr/>
          <p:nvPr/>
        </p:nvSpPr>
        <p:spPr>
          <a:xfrm rot="5400000">
            <a:off x="6408360" y="3929040"/>
            <a:ext cx="287640" cy="3529080"/>
          </a:xfrm>
          <a:custGeom>
            <a:avLst/>
            <a:gdLst>
              <a:gd name="textAreaLeft" fmla="*/ 0 w 287640"/>
              <a:gd name="textAreaRight" fmla="*/ 103680 w 287640"/>
              <a:gd name="textAreaTop" fmla="*/ 7200 h 3529080"/>
              <a:gd name="textAreaBottom" fmla="*/ 352188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4"/>
                  <a:pt x="10800" y="147"/>
                </a:cubicBezTo>
                <a:lnTo>
                  <a:pt x="10800" y="10653"/>
                </a:lnTo>
                <a:cubicBezTo>
                  <a:pt x="10800" y="10727"/>
                  <a:pt x="16200" y="10800"/>
                  <a:pt x="21600" y="10800"/>
                </a:cubicBezTo>
                <a:cubicBezTo>
                  <a:pt x="16200" y="10800"/>
                  <a:pt x="10800" y="10874"/>
                  <a:pt x="10800" y="10947"/>
                </a:cubicBezTo>
                <a:lnTo>
                  <a:pt x="10800" y="21453"/>
                </a:lnTo>
                <a:cubicBezTo>
                  <a:pt x="10800" y="2152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bbb5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ZoneTexte 6"/>
          <p:cNvSpPr/>
          <p:nvPr/>
        </p:nvSpPr>
        <p:spPr>
          <a:xfrm>
            <a:off x="5292720" y="5908680"/>
            <a:ext cx="29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OMMISSION TECH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ZoneTexte 7"/>
          <p:cNvSpPr/>
          <p:nvPr/>
        </p:nvSpPr>
        <p:spPr>
          <a:xfrm>
            <a:off x="1332000" y="586908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OMMISSION SUPÉRIE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1"/>
          <p:cNvSpPr/>
          <p:nvPr/>
        </p:nvSpPr>
        <p:spPr>
          <a:xfrm>
            <a:off x="519120" y="16020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  <a:ea typeface="Arial"/>
              </a:rPr>
              <a:t>Présentation générale de la loi n° 12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onnecteur droit 11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8"/>
          <p:cNvSpPr/>
          <p:nvPr/>
        </p:nvSpPr>
        <p:spPr>
          <a:xfrm>
            <a:off x="5435640" y="2824200"/>
            <a:ext cx="331956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spAutoFit/>
          </a:bodyPr>
          <a:p>
            <a:pPr marL="177840" indent="-177840">
              <a:buClr>
                <a:srgbClr val="376092"/>
              </a:buClr>
              <a:buSzPct val="70000"/>
              <a:buFont typeface="Tahoma"/>
              <a:buChar char="–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600" spc="-1" strike="noStrike">
                <a:solidFill>
                  <a:srgbClr val="376092"/>
                </a:solidFill>
                <a:latin typeface="Arial"/>
              </a:rPr>
              <a:t>Objet de la loi, dé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3"/>
          <p:cNvSpPr/>
          <p:nvPr/>
        </p:nvSpPr>
        <p:spPr>
          <a:xfrm>
            <a:off x="5465880" y="4697280"/>
            <a:ext cx="367812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spAutoFit/>
          </a:bodyPr>
          <a:p>
            <a:pPr marL="177840" indent="-177840">
              <a:buClr>
                <a:srgbClr val="376092"/>
              </a:buClr>
              <a:buSzPct val="70000"/>
              <a:buFont typeface="Tahoma"/>
              <a:buChar char="–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600" spc="-1" strike="noStrike">
                <a:solidFill>
                  <a:srgbClr val="376092"/>
                </a:solidFill>
                <a:latin typeface="Arial"/>
              </a:rPr>
              <a:t>Examen des deman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714240" y="2695680"/>
            <a:ext cx="4434120" cy="4118040"/>
          </a:xfrm>
          <a:prstGeom prst="rect">
            <a:avLst/>
          </a:prstGeom>
          <a:solidFill>
            <a:srgbClr val="dce6f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4"/>
          <p:cNvSpPr/>
          <p:nvPr/>
        </p:nvSpPr>
        <p:spPr>
          <a:xfrm>
            <a:off x="1784520" y="3267000"/>
            <a:ext cx="6900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3720" rIns="6372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5"/>
          <p:cNvSpPr/>
          <p:nvPr/>
        </p:nvSpPr>
        <p:spPr>
          <a:xfrm>
            <a:off x="1844640" y="3887640"/>
            <a:ext cx="6899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3720" rIns="6372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6"/>
          <p:cNvSpPr/>
          <p:nvPr/>
        </p:nvSpPr>
        <p:spPr>
          <a:xfrm>
            <a:off x="1844640" y="4552920"/>
            <a:ext cx="6899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3720" rIns="6372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9"/>
          <p:cNvSpPr/>
          <p:nvPr/>
        </p:nvSpPr>
        <p:spPr>
          <a:xfrm>
            <a:off x="755640" y="2695680"/>
            <a:ext cx="7967520" cy="4118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858960" y="2781360"/>
            <a:ext cx="4144680" cy="34272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</a:rPr>
              <a:t>Dispositions géné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"/>
          <p:cNvSpPr/>
          <p:nvPr/>
        </p:nvSpPr>
        <p:spPr>
          <a:xfrm>
            <a:off x="858960" y="3392640"/>
            <a:ext cx="4144680" cy="3441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</a:rPr>
              <a:t>Le plan national de production d’électricité par les 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858960" y="4056120"/>
            <a:ext cx="4217760" cy="344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</a:rPr>
              <a:t>Les régimes des projets autoris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>
            <a:off x="874800" y="4718160"/>
            <a:ext cx="4201920" cy="34452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</a:rPr>
              <a:t>La commission techniq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6"/>
          <p:cNvSpPr/>
          <p:nvPr/>
        </p:nvSpPr>
        <p:spPr>
          <a:xfrm>
            <a:off x="1835280" y="5216400"/>
            <a:ext cx="6899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3720" rIns="6372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6"/>
          <p:cNvSpPr/>
          <p:nvPr/>
        </p:nvSpPr>
        <p:spPr>
          <a:xfrm>
            <a:off x="900000" y="5288040"/>
            <a:ext cx="4200480" cy="34452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</a:rPr>
              <a:t>Le sort des instal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6"/>
          <p:cNvSpPr/>
          <p:nvPr/>
        </p:nvSpPr>
        <p:spPr>
          <a:xfrm>
            <a:off x="1835280" y="5805360"/>
            <a:ext cx="6899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3720" rIns="6372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6"/>
          <p:cNvSpPr/>
          <p:nvPr/>
        </p:nvSpPr>
        <p:spPr>
          <a:xfrm>
            <a:off x="900000" y="5877000"/>
            <a:ext cx="4200480" cy="34596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</a:rPr>
              <a:t>Contrôle, infractions et sa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6"/>
          <p:cNvSpPr/>
          <p:nvPr/>
        </p:nvSpPr>
        <p:spPr>
          <a:xfrm>
            <a:off x="900000" y="6381720"/>
            <a:ext cx="4200480" cy="344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</a:rPr>
              <a:t>Dispositions diver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6"/>
          <p:cNvSpPr/>
          <p:nvPr/>
        </p:nvSpPr>
        <p:spPr>
          <a:xfrm>
            <a:off x="1835280" y="6308640"/>
            <a:ext cx="6899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3720" rIns="6372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8"/>
          <p:cNvSpPr/>
          <p:nvPr/>
        </p:nvSpPr>
        <p:spPr>
          <a:xfrm>
            <a:off x="5429160" y="3359160"/>
            <a:ext cx="295920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spAutoFit/>
          </a:bodyPr>
          <a:p>
            <a:pPr marL="177840" indent="-177840">
              <a:buClr>
                <a:srgbClr val="376092"/>
              </a:buClr>
              <a:buSzPct val="70000"/>
              <a:buFont typeface="Tahoma"/>
              <a:buChar char="–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600" spc="-1" strike="noStrike">
                <a:solidFill>
                  <a:srgbClr val="376092"/>
                </a:solidFill>
                <a:latin typeface="Arial"/>
              </a:rPr>
              <a:t>Fixation des program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3"/>
          <p:cNvSpPr/>
          <p:nvPr/>
        </p:nvSpPr>
        <p:spPr>
          <a:xfrm>
            <a:off x="5465880" y="5252760"/>
            <a:ext cx="3066840" cy="55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spAutoFit/>
          </a:bodyPr>
          <a:p>
            <a:pPr marL="177840" indent="-177840">
              <a:buClr>
                <a:srgbClr val="376092"/>
              </a:buClr>
              <a:buSzPct val="70000"/>
              <a:buFont typeface="Tahoma"/>
              <a:buChar char="–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600" spc="-1" strike="noStrike">
                <a:solidFill>
                  <a:srgbClr val="376092"/>
                </a:solidFill>
                <a:latin typeface="Arial"/>
              </a:rPr>
              <a:t>Démantèlement, poursuite de l’explo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3"/>
          <p:cNvSpPr/>
          <p:nvPr/>
        </p:nvSpPr>
        <p:spPr>
          <a:xfrm>
            <a:off x="5505480" y="5905440"/>
            <a:ext cx="306720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spAutoFit/>
          </a:bodyPr>
          <a:p>
            <a:pPr marL="177840" indent="-177840">
              <a:buClr>
                <a:srgbClr val="376092"/>
              </a:buClr>
              <a:buSzPct val="70000"/>
              <a:buFont typeface="Tahoma"/>
              <a:buChar char="–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600" spc="-1" strike="noStrike">
                <a:solidFill>
                  <a:srgbClr val="376092"/>
                </a:solidFill>
                <a:latin typeface="Arial"/>
              </a:rPr>
              <a:t>Modalité des contrô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3"/>
          <p:cNvSpPr/>
          <p:nvPr/>
        </p:nvSpPr>
        <p:spPr>
          <a:xfrm>
            <a:off x="5505480" y="6405480"/>
            <a:ext cx="306720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spAutoFit/>
          </a:bodyPr>
          <a:p>
            <a:pPr marL="177840" indent="-177840">
              <a:buClr>
                <a:srgbClr val="376092"/>
              </a:buClr>
              <a:buSzPct val="70000"/>
              <a:buFont typeface="Tahoma"/>
              <a:buChar char="–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600" spc="-1" strike="noStrike">
                <a:solidFill>
                  <a:srgbClr val="376092"/>
                </a:solidFill>
                <a:latin typeface="Arial"/>
              </a:rPr>
              <a:t>Dispositions transitoire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4"/>
          <p:cNvSpPr/>
          <p:nvPr/>
        </p:nvSpPr>
        <p:spPr>
          <a:xfrm>
            <a:off x="2664360" y="226692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76092"/>
                </a:solidFill>
                <a:latin typeface="Calibri"/>
              </a:rPr>
              <a:t>7 CHAPITRES  - 42 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5"/>
          <p:cNvSpPr/>
          <p:nvPr/>
        </p:nvSpPr>
        <p:spPr>
          <a:xfrm>
            <a:off x="362160" y="333360"/>
            <a:ext cx="722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PRÉSENTATION DE LA LOI N° 12-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Diagramme 47" descr=""/>
          <p:cNvPicPr/>
          <p:nvPr/>
        </p:nvPicPr>
        <p:blipFill>
          <a:blip r:embed="rId1"/>
          <a:stretch/>
        </p:blipFill>
        <p:spPr>
          <a:xfrm>
            <a:off x="-6480" y="890640"/>
            <a:ext cx="7645680" cy="146196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8"/>
          <p:cNvSpPr/>
          <p:nvPr/>
        </p:nvSpPr>
        <p:spPr>
          <a:xfrm>
            <a:off x="5473800" y="3958920"/>
            <a:ext cx="3143160" cy="55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spAutoFit/>
          </a:bodyPr>
          <a:p>
            <a:pPr marL="177840" indent="-177840">
              <a:buClr>
                <a:srgbClr val="376092"/>
              </a:buClr>
              <a:buSzPct val="70000"/>
              <a:buFont typeface="Tahoma"/>
              <a:buChar char="–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600" spc="-1" strike="noStrike">
                <a:solidFill>
                  <a:srgbClr val="376092"/>
                </a:solidFill>
                <a:latin typeface="Arial"/>
              </a:rPr>
              <a:t>Autoproduction, Production privée, 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1"/>
          <p:cNvSpPr/>
          <p:nvPr/>
        </p:nvSpPr>
        <p:spPr>
          <a:xfrm>
            <a:off x="519120" y="16020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  <a:ea typeface="Arial"/>
              </a:rPr>
              <a:t>Présentation générale de la loi n° 12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onnecteur droit 33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Diagramme 1" descr=""/>
          <p:cNvPicPr/>
          <p:nvPr/>
        </p:nvPicPr>
        <p:blipFill>
          <a:blip r:embed="rId1"/>
          <a:stretch/>
        </p:blipFill>
        <p:spPr>
          <a:xfrm>
            <a:off x="1384200" y="901800"/>
            <a:ext cx="7381800" cy="54133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1"/>
          <p:cNvSpPr/>
          <p:nvPr/>
        </p:nvSpPr>
        <p:spPr>
          <a:xfrm>
            <a:off x="519120" y="16020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  <a:ea typeface="Arial"/>
              </a:rPr>
              <a:t>Présentation générale de la loi n° 12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onnecteur droit 5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760" y="1999800"/>
            <a:ext cx="814392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76092"/>
                </a:solidFill>
                <a:latin typeface="Calibri"/>
              </a:rPr>
              <a:t>LA DÉCRET D’APPLICATION DE LA LOI N012-2015</a:t>
            </a:r>
            <a:br>
              <a:rPr sz="3600"/>
            </a:br>
            <a:br>
              <a:rPr sz="3600"/>
            </a:br>
            <a:r>
              <a:rPr b="1" i="1" lang="fr-FR" sz="2400" spc="-1" strike="noStrike">
                <a:solidFill>
                  <a:srgbClr val="c00000"/>
                </a:solidFill>
                <a:latin typeface="Calibri"/>
              </a:rPr>
              <a:t>DÉCRET N°1123-2016 DU 24 AOUT 2016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24000" y="993600"/>
            <a:ext cx="8280360" cy="5443200"/>
          </a:xfrm>
          <a:prstGeom prst="rect">
            <a:avLst/>
          </a:prstGeom>
          <a:solidFill>
            <a:srgbClr val="c9faff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Bell MT"/>
              </a:rPr>
              <a:t>Cahier des charges techniques de raccordement au réseau: préparés et soumis à une consultation publique du 03 au 10 Mars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Bell MT"/>
              </a:rPr>
              <a:t>Contrats d’achats pour l’autoproduction: préparés et soumis à une consultation publique du 03 au 10 Mars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Bell MT"/>
              </a:rPr>
              <a:t>Contrat d’achat pour la vente totale (PPA): en cours d’élaboration et sera soumis à une consultation publique cette sem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0000"/>
                </a:solidFill>
                <a:latin typeface="Bell MT"/>
              </a:rPr>
              <a:t>Annonce annuelle: défini les puissance annuelle à dévelop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0000"/>
                </a:solidFill>
                <a:latin typeface="Bell MT"/>
              </a:rPr>
              <a:t>Le tarif d’achat: sera défini par arrêté ministériel (en cours d’étu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0000"/>
                </a:solidFill>
                <a:latin typeface="Bell MT"/>
              </a:rPr>
              <a:t>Manuel de procédures qui défini les procédures de gestion pour la commission technique en charge de l’étude des doss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0000"/>
                </a:solidFill>
                <a:latin typeface="Bell MT"/>
              </a:rPr>
              <a:t>Les documents d’appel d’offres pour le régime de concession (en cours d’élabo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itre 1"/>
          <p:cNvSpPr/>
          <p:nvPr/>
        </p:nvSpPr>
        <p:spPr>
          <a:xfrm>
            <a:off x="430200" y="-1035000"/>
            <a:ext cx="8713800" cy="60624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TEXTES D’APPLICATION EN COURS D’É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1"/>
          <p:cNvSpPr/>
          <p:nvPr/>
        </p:nvSpPr>
        <p:spPr>
          <a:xfrm>
            <a:off x="519120" y="16020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  <a:ea typeface="Arial"/>
              </a:rPr>
              <a:t>Textes d’application en cours d’é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onnecteur droit 4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1857240"/>
            <a:ext cx="9115560" cy="1000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428760" y="2714760"/>
            <a:ext cx="2813040" cy="3762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3"/>
          <a:stretch/>
        </p:blipFill>
        <p:spPr>
          <a:xfrm>
            <a:off x="3500280" y="3071880"/>
            <a:ext cx="2762280" cy="3424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/>
          <p:cNvPicPr/>
          <p:nvPr/>
        </p:nvPicPr>
        <p:blipFill>
          <a:blip r:embed="rId4"/>
          <a:stretch/>
        </p:blipFill>
        <p:spPr>
          <a:xfrm>
            <a:off x="6429240" y="3071880"/>
            <a:ext cx="2408400" cy="317664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31"/>
          <p:cNvSpPr/>
          <p:nvPr/>
        </p:nvSpPr>
        <p:spPr>
          <a:xfrm>
            <a:off x="519120" y="16020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  <a:ea typeface="Arial"/>
              </a:rPr>
              <a:t>Textes d’application en cours d’é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Connecteur droit 8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00040" y="1379520"/>
            <a:ext cx="84297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Bell MT"/>
              </a:rPr>
              <a:t>Avantages accordés par le F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39640" y="1916280"/>
          <a:ext cx="8215560" cy="4238280"/>
        </p:xfrm>
        <a:graphic>
          <a:graphicData uri="http://schemas.openxmlformats.org/drawingml/2006/table">
            <a:tbl>
              <a:tblPr/>
              <a:tblGrid>
                <a:gridCol w="1697040"/>
                <a:gridCol w="1255680"/>
                <a:gridCol w="526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f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t énergét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00 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rojets démon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0.000 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nvestissements immatéri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0.000 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nvestissements matéri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0.000 D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Consommation inférieure à 4.000 Tep/a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.000 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 </a:t>
                      </a: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onsommation comprise entre 4.000  et  7.000 Tep/a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50.000 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Consommation supérieure à 7.000 Tep/a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sp>
        <p:nvSpPr>
          <p:cNvPr id="251" name="Rectangle 31"/>
          <p:cNvSpPr/>
          <p:nvPr/>
        </p:nvSpPr>
        <p:spPr>
          <a:xfrm>
            <a:off x="519120" y="160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  <a:ea typeface="Arial"/>
              </a:rPr>
              <a:t>L’outil législatif et réglem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onnecteur droit 7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500040" y="1484280"/>
            <a:ext cx="84297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Bell MT"/>
              </a:rPr>
              <a:t>Avantages accordés par le F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42960" y="2806560"/>
          <a:ext cx="8215200" cy="3791160"/>
        </p:xfrm>
        <a:graphic>
          <a:graphicData uri="http://schemas.openxmlformats.org/drawingml/2006/table">
            <a:tbl>
              <a:tblPr/>
              <a:tblGrid>
                <a:gridCol w="2738520"/>
                <a:gridCol w="1141200"/>
                <a:gridCol w="4335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f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ccordement réseau GN indust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.000 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 secteur pê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00 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cs diagnostic mo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0 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ccordement réseau GN résiden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 DT (logement individu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DT (logement collecti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uffage solaire  de l’eau - secteur résiden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 DT (1 à 3 m2 capteu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 DT (3 à 7 m2 capteu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uffage solaire  de l’eau - secteur terti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 DT (par m2 capteu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sp>
        <p:nvSpPr>
          <p:cNvPr id="255" name="Rectangle 31"/>
          <p:cNvSpPr/>
          <p:nvPr/>
        </p:nvSpPr>
        <p:spPr>
          <a:xfrm>
            <a:off x="519120" y="160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  <a:ea typeface="Arial"/>
              </a:rPr>
              <a:t>L’outil législatif et réglem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necteur droit 7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10920" y="1125360"/>
            <a:ext cx="79786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Détérioration des ressources nationales (-6%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 </a:t>
            </a: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Augmentation de la demande (+2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Déficit énergétique structurel : 3.8 Mtep en 2014; 0.5 Mtep en 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Importation de 40% des besoins en énergie primai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5"/>
          <p:cNvSpPr/>
          <p:nvPr/>
        </p:nvSpPr>
        <p:spPr>
          <a:xfrm rot="16200000">
            <a:off x="-374040" y="1579320"/>
            <a:ext cx="1403280" cy="2764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ergie Prim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6"/>
          <p:cNvSpPr/>
          <p:nvPr/>
        </p:nvSpPr>
        <p:spPr>
          <a:xfrm rot="16200000">
            <a:off x="-342360" y="3102840"/>
            <a:ext cx="1413000" cy="3373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Electric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7"/>
          <p:cNvSpPr/>
          <p:nvPr/>
        </p:nvSpPr>
        <p:spPr>
          <a:xfrm rot="16200000">
            <a:off x="-277920" y="4493520"/>
            <a:ext cx="1284120" cy="3373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Gaz natu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8"/>
          <p:cNvSpPr/>
          <p:nvPr/>
        </p:nvSpPr>
        <p:spPr>
          <a:xfrm rot="16200000">
            <a:off x="-369360" y="5937480"/>
            <a:ext cx="1436400" cy="3070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enouvel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4"/>
          <p:cNvSpPr/>
          <p:nvPr/>
        </p:nvSpPr>
        <p:spPr>
          <a:xfrm>
            <a:off x="684360" y="2421000"/>
            <a:ext cx="619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3720" rIns="6372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5"/>
          <p:cNvSpPr/>
          <p:nvPr/>
        </p:nvSpPr>
        <p:spPr>
          <a:xfrm>
            <a:off x="611280" y="2421000"/>
            <a:ext cx="597672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Puissance installée: 5200 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Production :17 672 GW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Croissance de la demande: 5% par 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Taux d'électrification :  99,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Un mix presque totalement Gaz Naturel : 9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4"/>
          <p:cNvSpPr/>
          <p:nvPr/>
        </p:nvSpPr>
        <p:spPr>
          <a:xfrm>
            <a:off x="611280" y="4005360"/>
            <a:ext cx="619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3720" rIns="6372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611280" y="4005360"/>
            <a:ext cx="6121440" cy="13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75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Production nationale : 45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Importation: 48 % - Redevances : 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 </a:t>
            </a: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Consommation : 75%  pour la production électr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 </a:t>
            </a: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Disponibilité 2030: 20% des beso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4"/>
          <p:cNvSpPr/>
          <p:nvPr/>
        </p:nvSpPr>
        <p:spPr>
          <a:xfrm>
            <a:off x="684360" y="5373720"/>
            <a:ext cx="619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3720" rIns="6372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684360" y="5487840"/>
            <a:ext cx="8351640" cy="12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75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Ressources importantes (éolien, sola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Un grand potentiel pour la production d’électric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Réalisations limitées: 245 MW éolien – 65 MW hydraulique – 25 MW PV (solar roof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735520" y="1859040"/>
            <a:ext cx="3487680" cy="4475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1"/>
          <p:cNvSpPr/>
          <p:nvPr/>
        </p:nvSpPr>
        <p:spPr>
          <a:xfrm>
            <a:off x="519120" y="16020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</a:rPr>
              <a:t>Le Contexte Energétique Tunisi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onnecteur droit 1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68000" y="1484280"/>
            <a:ext cx="8429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Bell MT"/>
              </a:rPr>
              <a:t>Avantages accordés par le F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42960" y="2495520"/>
          <a:ext cx="8215200" cy="3746520"/>
        </p:xfrm>
        <a:graphic>
          <a:graphicData uri="http://schemas.openxmlformats.org/drawingml/2006/table">
            <a:tbl>
              <a:tblPr/>
              <a:tblGrid>
                <a:gridCol w="2738520"/>
                <a:gridCol w="1141200"/>
                <a:gridCol w="433548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f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géné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.000 DT / Proj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Éclairage &amp; pompage solaire et éolien fer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.000 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biog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000 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énération électricité à partir biog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0 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PV raccordé au réseau (Bâtiments solair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lafond 3.000 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géné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.000 DT / Proj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sp>
        <p:nvSpPr>
          <p:cNvPr id="259" name="Rectangle 31"/>
          <p:cNvSpPr/>
          <p:nvPr/>
        </p:nvSpPr>
        <p:spPr>
          <a:xfrm>
            <a:off x="519120" y="16020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  <a:ea typeface="Arial"/>
              </a:rPr>
              <a:t>L’outil législatif et réglem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necteur droit 7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356920" y="214200"/>
            <a:ext cx="7286760" cy="28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Cadre incitatif de la maîtrise de l’énerg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28760" y="1500120"/>
            <a:ext cx="8501040" cy="56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Bell MT"/>
              </a:rPr>
              <a:t>Les matières premières, produits semi-finis et équipements utilisés dans la maîtrise de l’énergie bénéficient 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Bell MT"/>
              </a:rPr>
              <a:t>la suspension de la TV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Bell MT"/>
              </a:rPr>
              <a:t>la réduction au taux de 10 % des droits de dou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Bell MT"/>
              </a:rPr>
              <a:t>Les produits et équipements sont classés en 4 lis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Bell MT"/>
              </a:rPr>
              <a:t>Les listes sont actualisées par décr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214280" y="3571920"/>
          <a:ext cx="6715440" cy="2367000"/>
        </p:xfrm>
        <a:graphic>
          <a:graphicData uri="http://schemas.openxmlformats.org/drawingml/2006/table">
            <a:tbl>
              <a:tblPr/>
              <a:tblGrid>
                <a:gridCol w="1343160"/>
                <a:gridCol w="1343160"/>
                <a:gridCol w="1342800"/>
                <a:gridCol w="1343160"/>
                <a:gridCol w="134316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. Premiè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. Premiè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n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 1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A 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A 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 1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A 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A 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éd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me Prévisionnel Fabrication (approuvé par ANM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vilège Fisc. Sur Attestation AN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64" name="Rectangle 10"/>
          <p:cNvSpPr/>
          <p:nvPr/>
        </p:nvSpPr>
        <p:spPr>
          <a:xfrm>
            <a:off x="3169440" y="1011240"/>
            <a:ext cx="2948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Bell MT"/>
              </a:rPr>
              <a:t>Avantages fisc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1"/>
          <p:cNvSpPr/>
          <p:nvPr/>
        </p:nvSpPr>
        <p:spPr>
          <a:xfrm>
            <a:off x="519120" y="16020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  <a:ea typeface="Arial"/>
              </a:rPr>
              <a:t>L’outil législatif et réglem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onnecteur droit 9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ZoneTexte 8"/>
          <p:cNvGrpSpPr/>
          <p:nvPr/>
        </p:nvGrpSpPr>
        <p:grpSpPr>
          <a:xfrm>
            <a:off x="5230800" y="4998960"/>
            <a:ext cx="3913200" cy="1505160"/>
            <a:chOff x="5230800" y="4998960"/>
            <a:chExt cx="3913200" cy="1505160"/>
          </a:xfrm>
        </p:grpSpPr>
        <p:pic>
          <p:nvPicPr>
            <p:cNvPr id="268" name="ZoneTexte 8" descr=""/>
            <p:cNvPicPr/>
            <p:nvPr/>
          </p:nvPicPr>
          <p:blipFill>
            <a:blip r:embed="rId1"/>
            <a:stretch/>
          </p:blipFill>
          <p:spPr>
            <a:xfrm>
              <a:off x="5230800" y="4998960"/>
              <a:ext cx="391320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292720" y="5033880"/>
              <a:ext cx="37432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76092"/>
                  </a:solidFill>
                  <a:latin typeface="Calibri"/>
                  <a:ea typeface="BrowalliaUPC"/>
                </a:rPr>
                <a:t>Email: </a:t>
              </a:r>
              <a:r>
                <a:rPr b="0" lang="en-US" sz="1400" spc="-1" strike="noStrike" u="sng">
                  <a:solidFill>
                    <a:srgbClr val="0000ff"/>
                  </a:solidFill>
                  <a:uFillTx/>
                  <a:latin typeface="Calibri"/>
                  <a:ea typeface="BrowalliaUPC"/>
                  <a:hlinkClick r:id="rId2"/>
                </a:rPr>
                <a:t>karim.nefzi@anme.nat.t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76092"/>
                  </a:solidFill>
                  <a:latin typeface="Calibri"/>
                  <a:ea typeface="BrowalliaUPC"/>
                </a:rPr>
                <a:t>Site Web: </a:t>
              </a:r>
              <a:r>
                <a:rPr b="0" lang="en-US" sz="1400" spc="-1" strike="noStrike" u="sng">
                  <a:solidFill>
                    <a:srgbClr val="0000ff"/>
                  </a:solidFill>
                  <a:uFillTx/>
                  <a:latin typeface="Calibri"/>
                  <a:ea typeface="BrowalliaUPC"/>
                  <a:hlinkClick r:id="rId3"/>
                </a:rPr>
                <a:t>www.anme.nat.tn</a:t>
              </a:r>
              <a:r>
                <a:rPr b="1" lang="en-US" sz="1400" spc="-1" strike="noStrike">
                  <a:solidFill>
                    <a:srgbClr val="376092"/>
                  </a:solidFill>
                  <a:latin typeface="Calibri"/>
                  <a:ea typeface="BrowalliaUPC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76092"/>
                  </a:solidFill>
                  <a:latin typeface="Calibri"/>
                  <a:ea typeface="BrowalliaUPC"/>
                </a:rPr>
                <a:t>Tél:  71 906 9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76092"/>
                  </a:solidFill>
                  <a:latin typeface="Calibri"/>
                  <a:ea typeface="BrowalliaUPC"/>
                </a:rPr>
                <a:t>Fax: 71 904 624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3"/>
          <p:cNvSpPr/>
          <p:nvPr/>
        </p:nvSpPr>
        <p:spPr>
          <a:xfrm>
            <a:off x="4572000" y="4857840"/>
            <a:ext cx="4572000" cy="950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" descr=""/>
          <p:cNvPicPr/>
          <p:nvPr/>
        </p:nvPicPr>
        <p:blipFill>
          <a:blip r:embed="rId4"/>
          <a:stretch/>
        </p:blipFill>
        <p:spPr>
          <a:xfrm>
            <a:off x="108000" y="476280"/>
            <a:ext cx="608976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5929200" y="3786120"/>
            <a:ext cx="2011320" cy="2349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7118280" y="2357280"/>
            <a:ext cx="2025720" cy="252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2" name="Rectangle 6"/>
          <p:cNvSpPr/>
          <p:nvPr/>
        </p:nvSpPr>
        <p:spPr>
          <a:xfrm>
            <a:off x="0" y="1571760"/>
            <a:ext cx="3727440" cy="8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4040" indent="-28404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otentiel Eolie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 algn="ctr" rtl="1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68200" y="6429240"/>
            <a:ext cx="8834400" cy="3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4040" indent="-28404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6 millions de tonnes de déchets valorisables pour la production d’électric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285840" y="4572000"/>
            <a:ext cx="3095640" cy="8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4040" indent="-284040" algn="ctr" rtl="1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hauffe eau solaire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 algn="ctr" rtl="1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millions de m</a:t>
            </a:r>
            <a:r>
              <a:rPr b="1" lang="fr-F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space réservé du numéro de diapositive 7"/>
          <p:cNvSpPr/>
          <p:nvPr/>
        </p:nvSpPr>
        <p:spPr>
          <a:xfrm>
            <a:off x="8786880" y="642924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C97E-FD15-42F5-8CF0-5A50FD6DA376}" type="slidenum">
              <a:rPr b="1" lang="ar-TN" sz="1200" spc="-1" strike="noStrike">
                <a:solidFill>
                  <a:srgbClr val="898989"/>
                </a:solidFill>
                <a:latin typeface="Arial"/>
                <a:ea typeface="Times New Roman (Arabic)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mage 13" descr="pvtunisia.jpg"/>
          <p:cNvPicPr/>
          <p:nvPr/>
        </p:nvPicPr>
        <p:blipFill>
          <a:blip r:embed="rId3"/>
          <a:stretch/>
        </p:blipFill>
        <p:spPr>
          <a:xfrm>
            <a:off x="3571920" y="3000240"/>
            <a:ext cx="1655640" cy="12398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4"/>
          <p:cNvSpPr/>
          <p:nvPr/>
        </p:nvSpPr>
        <p:spPr>
          <a:xfrm>
            <a:off x="0" y="2928960"/>
            <a:ext cx="3174840" cy="8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4040" indent="-28404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otentiel Solair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900 G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نتيجة بحث الصور عن ‪renewable‬‏"/>
          <p:cNvPicPr/>
          <p:nvPr/>
        </p:nvPicPr>
        <p:blipFill>
          <a:blip r:embed="rId4"/>
          <a:stretch/>
        </p:blipFill>
        <p:spPr>
          <a:xfrm>
            <a:off x="3429000" y="1500120"/>
            <a:ext cx="1655640" cy="13255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Image 19" descr="soften.jpg"/>
          <p:cNvPicPr/>
          <p:nvPr/>
        </p:nvPicPr>
        <p:blipFill>
          <a:blip r:embed="rId5"/>
          <a:stretch/>
        </p:blipFill>
        <p:spPr>
          <a:xfrm>
            <a:off x="3429000" y="4572000"/>
            <a:ext cx="1343160" cy="1343160"/>
          </a:xfrm>
          <a:prstGeom prst="rect">
            <a:avLst/>
          </a:prstGeom>
          <a:ln w="0">
            <a:noFill/>
          </a:ln>
        </p:spPr>
      </p:pic>
      <p:sp>
        <p:nvSpPr>
          <p:cNvPr id="123" name="Plus 20"/>
          <p:cNvSpPr/>
          <p:nvPr/>
        </p:nvSpPr>
        <p:spPr>
          <a:xfrm>
            <a:off x="-14400" y="6353280"/>
            <a:ext cx="505080" cy="504720"/>
          </a:xfrm>
          <a:custGeom>
            <a:avLst/>
            <a:gdLst>
              <a:gd name="textAreaLeft" fmla="*/ 66960 w 505080"/>
              <a:gd name="textAreaRight" fmla="*/ 438120 w 505080"/>
              <a:gd name="textAreaTop" fmla="*/ 192960 h 504720"/>
              <a:gd name="textAreaBottom" fmla="*/ 311760 h 504720"/>
            </a:gdLst>
            <a:ahLst/>
            <a:rect l="textAreaLeft" t="textAreaTop" r="textAreaRight" b="textAreaBottom"/>
            <a:pathLst>
              <a:path w="504826" h="504825">
                <a:moveTo>
                  <a:pt x="66915" y="193045"/>
                </a:moveTo>
                <a:lnTo>
                  <a:pt x="193046" y="193045"/>
                </a:lnTo>
                <a:lnTo>
                  <a:pt x="193046" y="66915"/>
                </a:lnTo>
                <a:lnTo>
                  <a:pt x="311780" y="66915"/>
                </a:lnTo>
                <a:lnTo>
                  <a:pt x="311780" y="193045"/>
                </a:lnTo>
                <a:lnTo>
                  <a:pt x="437911" y="193045"/>
                </a:lnTo>
                <a:lnTo>
                  <a:pt x="437911" y="311780"/>
                </a:lnTo>
                <a:lnTo>
                  <a:pt x="311780" y="311780"/>
                </a:lnTo>
                <a:lnTo>
                  <a:pt x="311780" y="437910"/>
                </a:lnTo>
                <a:lnTo>
                  <a:pt x="193046" y="437910"/>
                </a:lnTo>
                <a:lnTo>
                  <a:pt x="193046" y="311780"/>
                </a:lnTo>
                <a:lnTo>
                  <a:pt x="66915" y="31178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onnecteur droit 19"/>
          <p:cNvSpPr/>
          <p:nvPr/>
        </p:nvSpPr>
        <p:spPr>
          <a:xfrm>
            <a:off x="0" y="92880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oneTexte 11"/>
          <p:cNvSpPr/>
          <p:nvPr/>
        </p:nvSpPr>
        <p:spPr>
          <a:xfrm>
            <a:off x="5425920" y="1139760"/>
            <a:ext cx="327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potentiel important surtout pour l’énergie solaire et éolien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0" y="160200"/>
            <a:ext cx="9144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</a:rPr>
              <a:t>Potentiel 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5" descr=""/>
          <p:cNvPicPr/>
          <p:nvPr/>
        </p:nvPicPr>
        <p:blipFill>
          <a:blip r:embed="rId1"/>
          <a:stretch/>
        </p:blipFill>
        <p:spPr>
          <a:xfrm>
            <a:off x="4468680" y="2448000"/>
            <a:ext cx="4505400" cy="42958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à coins arrondis 24"/>
          <p:cNvSpPr/>
          <p:nvPr/>
        </p:nvSpPr>
        <p:spPr>
          <a:xfrm>
            <a:off x="4921200" y="5207040"/>
            <a:ext cx="3888000" cy="86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alibri"/>
              </a:rPr>
              <a:t>Réaliser une économie d’énergie totale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1" lang="fr-FR" sz="1800" spc="-1" strike="noStrike">
                <a:solidFill>
                  <a:srgbClr val="ffffff"/>
                </a:solidFill>
                <a:latin typeface="Calibri"/>
              </a:rPr>
              <a:t> 16 millions de Tep durant la période 2016-20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contenu 2"/>
          <p:cNvSpPr/>
          <p:nvPr/>
        </p:nvSpPr>
        <p:spPr>
          <a:xfrm>
            <a:off x="152280" y="3083040"/>
            <a:ext cx="4033800" cy="3600360"/>
          </a:xfrm>
          <a:prstGeom prst="rect">
            <a:avLst/>
          </a:prstGeom>
          <a:solidFill>
            <a:srgbClr val="558ed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2f2f2"/>
                </a:solidFill>
                <a:latin typeface="Arial"/>
              </a:rPr>
              <a:t>Installer une puissance électrique à partir des ER supplémentaire d’environ 950 MW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2f2f2"/>
              </a:buClr>
              <a:buSzPct val="80000"/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2f2f2"/>
                </a:solidFill>
                <a:latin typeface="Arial"/>
              </a:rPr>
              <a:t>Eolien : 53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2f2f2"/>
              </a:buClr>
              <a:buSzPct val="80000"/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2f2f2"/>
                </a:solidFill>
                <a:latin typeface="Arial"/>
              </a:rPr>
              <a:t>Solaire : 375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2f2f2"/>
              </a:buClr>
              <a:buSzPct val="80000"/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2f2f2"/>
                </a:solidFill>
                <a:latin typeface="Arial"/>
              </a:rPr>
              <a:t>Biomasse : 45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2f2f2"/>
                </a:solidFill>
                <a:latin typeface="Arial"/>
              </a:rPr>
              <a:t>Installer 570 mille m</a:t>
            </a:r>
            <a:r>
              <a:rPr b="1" lang="fr-FR" sz="1600" spc="-1" strike="noStrike" baseline="30000">
                <a:solidFill>
                  <a:srgbClr val="f2f2f2"/>
                </a:solidFill>
                <a:latin typeface="Arial"/>
              </a:rPr>
              <a:t>2</a:t>
            </a:r>
            <a:r>
              <a:rPr b="1" lang="fr-FR" sz="1600" spc="-1" strike="noStrike">
                <a:solidFill>
                  <a:srgbClr val="f2f2f2"/>
                </a:solidFill>
                <a:latin typeface="Arial"/>
              </a:rPr>
              <a:t> de Chauffe Eau Sol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297000" y="2577960"/>
            <a:ext cx="3876480" cy="33732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2f2f2"/>
                </a:solidFill>
                <a:latin typeface="Arial"/>
              </a:rPr>
              <a:t>Objectif de développement 2016-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onnecteur droit 12"/>
          <p:cNvSpPr/>
          <p:nvPr/>
        </p:nvSpPr>
        <p:spPr>
          <a:xfrm>
            <a:off x="52560" y="105264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13"/>
          <p:cNvSpPr/>
          <p:nvPr/>
        </p:nvSpPr>
        <p:spPr>
          <a:xfrm>
            <a:off x="6985080" y="655488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EB31-DB7E-4F8D-93F1-D5E8E4489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"/>
          <p:cNvSpPr/>
          <p:nvPr/>
        </p:nvSpPr>
        <p:spPr>
          <a:xfrm>
            <a:off x="5521320" y="3098880"/>
            <a:ext cx="164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Scenario de réfé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"/>
          <p:cNvSpPr/>
          <p:nvPr/>
        </p:nvSpPr>
        <p:spPr>
          <a:xfrm>
            <a:off x="5519880" y="3300480"/>
            <a:ext cx="2301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Scenario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"/>
          <p:cNvSpPr/>
          <p:nvPr/>
        </p:nvSpPr>
        <p:spPr>
          <a:xfrm>
            <a:off x="5511960" y="3490920"/>
            <a:ext cx="1500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Scenario EE +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"/>
          <p:cNvSpPr/>
          <p:nvPr/>
        </p:nvSpPr>
        <p:spPr>
          <a:xfrm>
            <a:off x="5438880" y="2492280"/>
            <a:ext cx="250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2060"/>
                </a:solidFill>
                <a:latin typeface="Arial"/>
              </a:rPr>
              <a:t>Economie en combustible pour la production d’électric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3"/>
          <p:cNvSpPr/>
          <p:nvPr/>
        </p:nvSpPr>
        <p:spPr>
          <a:xfrm rot="20580000">
            <a:off x="7148520" y="3606840"/>
            <a:ext cx="1182600" cy="258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"/>
          <p:cNvSpPr/>
          <p:nvPr/>
        </p:nvSpPr>
        <p:spPr>
          <a:xfrm rot="20598600">
            <a:off x="7027920" y="3549600"/>
            <a:ext cx="1387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Calibri"/>
              </a:rPr>
              <a:t>Economie engendré par l’Efficacité Energéti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 rot="20683200">
            <a:off x="7054920" y="4084560"/>
            <a:ext cx="1332000" cy="289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1"/>
          <p:cNvSpPr/>
          <p:nvPr/>
        </p:nvSpPr>
        <p:spPr>
          <a:xfrm rot="20685000">
            <a:off x="6958080" y="4043160"/>
            <a:ext cx="1503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Calibri"/>
              </a:rPr>
              <a:t>Economie engendré par les Energies Renouvel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-30240" y="1252440"/>
            <a:ext cx="90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c000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gmenter la participation des énergies renouvelables dans la production d’électricité jusqu’à 30 % en 20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mouvoir d’autres usages des énergies renouvelables comme le pompage et le chauffe eau sol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oneTexte 1"/>
          <p:cNvSpPr/>
          <p:nvPr/>
        </p:nvSpPr>
        <p:spPr>
          <a:xfrm>
            <a:off x="4727520" y="2503440"/>
            <a:ext cx="164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K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1"/>
          <p:cNvSpPr/>
          <p:nvPr/>
        </p:nvSpPr>
        <p:spPr>
          <a:xfrm>
            <a:off x="509760" y="390600"/>
            <a:ext cx="79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</a:rPr>
              <a:t>Objectifs de Développement des 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e 20"/>
          <p:cNvGrpSpPr/>
          <p:nvPr/>
        </p:nvGrpSpPr>
        <p:grpSpPr>
          <a:xfrm>
            <a:off x="2050920" y="6093000"/>
            <a:ext cx="5004720" cy="428760"/>
            <a:chOff x="2050920" y="6093000"/>
            <a:chExt cx="5004720" cy="428760"/>
          </a:xfrm>
        </p:grpSpPr>
        <p:sp>
          <p:nvSpPr>
            <p:cNvPr id="148" name="Rectangle 15"/>
            <p:cNvSpPr/>
            <p:nvPr/>
          </p:nvSpPr>
          <p:spPr>
            <a:xfrm>
              <a:off x="2050920" y="6191280"/>
              <a:ext cx="225360" cy="2062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2"/>
            <p:cNvSpPr/>
            <p:nvPr/>
          </p:nvSpPr>
          <p:spPr>
            <a:xfrm>
              <a:off x="5153760" y="6226200"/>
              <a:ext cx="221400" cy="207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ZoneTexte 26"/>
            <p:cNvSpPr/>
            <p:nvPr/>
          </p:nvSpPr>
          <p:spPr>
            <a:xfrm>
              <a:off x="2158920" y="609300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fossil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ZoneTexte 34"/>
            <p:cNvSpPr/>
            <p:nvPr/>
          </p:nvSpPr>
          <p:spPr>
            <a:xfrm>
              <a:off x="5315760" y="6122880"/>
              <a:ext cx="173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Renouvel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e 29"/>
          <p:cNvGrpSpPr/>
          <p:nvPr/>
        </p:nvGrpSpPr>
        <p:grpSpPr>
          <a:xfrm>
            <a:off x="250920" y="1628640"/>
            <a:ext cx="2881080" cy="3888000"/>
            <a:chOff x="250920" y="1628640"/>
            <a:chExt cx="2881080" cy="3888000"/>
          </a:xfrm>
        </p:grpSpPr>
        <p:sp>
          <p:nvSpPr>
            <p:cNvPr id="153" name="Rectangle 21"/>
            <p:cNvSpPr/>
            <p:nvPr/>
          </p:nvSpPr>
          <p:spPr>
            <a:xfrm>
              <a:off x="250920" y="1628640"/>
              <a:ext cx="2881080" cy="3888000"/>
            </a:xfrm>
            <a:prstGeom prst="rect">
              <a:avLst/>
            </a:prstGeom>
            <a:solidFill>
              <a:srgbClr val="ddd9c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Inhaltsplatzhalter 2"/>
            <p:cNvSpPr/>
            <p:nvPr/>
          </p:nvSpPr>
          <p:spPr>
            <a:xfrm>
              <a:off x="971280" y="1844640"/>
              <a:ext cx="145152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1f497d"/>
                  </a:solidFill>
                  <a:latin typeface="Arial"/>
                  <a:ea typeface="MS PGothic"/>
                </a:rPr>
                <a:t> </a:t>
              </a:r>
              <a:r>
                <a:rPr b="1" lang="de-DE" sz="1800" spc="-1" strike="noStrike">
                  <a:solidFill>
                    <a:srgbClr val="1f497d"/>
                  </a:solidFill>
                  <a:latin typeface="Arial"/>
                  <a:ea typeface="MS PGothic"/>
                </a:rPr>
                <a:t>20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5" descr=""/>
            <p:cNvPicPr/>
            <p:nvPr/>
          </p:nvPicPr>
          <p:blipFill>
            <a:blip r:embed="rId1"/>
            <a:srcRect l="10468" t="4203" r="10850" b="3689"/>
            <a:stretch/>
          </p:blipFill>
          <p:spPr>
            <a:xfrm>
              <a:off x="682920" y="2420640"/>
              <a:ext cx="2129040" cy="20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ZoneTexte 20"/>
            <p:cNvSpPr/>
            <p:nvPr/>
          </p:nvSpPr>
          <p:spPr>
            <a:xfrm>
              <a:off x="1316880" y="38772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97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7"/>
            <p:cNvSpPr/>
            <p:nvPr/>
          </p:nvSpPr>
          <p:spPr>
            <a:xfrm>
              <a:off x="898920" y="4652640"/>
              <a:ext cx="172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4f81bd"/>
                  </a:solidFill>
                  <a:latin typeface="Arial"/>
                  <a:ea typeface="MS PGothic"/>
                </a:rPr>
                <a:t>16 800 GW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e 32"/>
          <p:cNvGrpSpPr/>
          <p:nvPr/>
        </p:nvGrpSpPr>
        <p:grpSpPr>
          <a:xfrm>
            <a:off x="6084720" y="1628640"/>
            <a:ext cx="2880000" cy="3888000"/>
            <a:chOff x="6084720" y="1628640"/>
            <a:chExt cx="2880000" cy="3888000"/>
          </a:xfrm>
        </p:grpSpPr>
        <p:sp>
          <p:nvSpPr>
            <p:cNvPr id="159" name="Rectangle 24"/>
            <p:cNvSpPr/>
            <p:nvPr/>
          </p:nvSpPr>
          <p:spPr>
            <a:xfrm>
              <a:off x="6084720" y="1628640"/>
              <a:ext cx="2880000" cy="3888000"/>
            </a:xfrm>
            <a:prstGeom prst="rect">
              <a:avLst/>
            </a:prstGeom>
            <a:solidFill>
              <a:srgbClr val="d7e4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e 3"/>
            <p:cNvGrpSpPr/>
            <p:nvPr/>
          </p:nvGrpSpPr>
          <p:grpSpPr>
            <a:xfrm>
              <a:off x="6588720" y="2348640"/>
              <a:ext cx="2013120" cy="2021040"/>
              <a:chOff x="6588720" y="2348640"/>
              <a:chExt cx="2013120" cy="2021040"/>
            </a:xfrm>
          </p:grpSpPr>
          <p:pic>
            <p:nvPicPr>
              <p:cNvPr id="161" name="Picture 3" descr=""/>
              <p:cNvPicPr/>
              <p:nvPr/>
            </p:nvPicPr>
            <p:blipFill>
              <a:blip r:embed="rId2"/>
              <a:srcRect l="9321" t="4260" r="10317" b="4975"/>
              <a:stretch/>
            </p:blipFill>
            <p:spPr>
              <a:xfrm>
                <a:off x="6588720" y="2348640"/>
                <a:ext cx="2013120" cy="202104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sp>
            <p:nvSpPr>
              <p:cNvPr id="162" name="ZoneTexte 2"/>
              <p:cNvSpPr/>
              <p:nvPr/>
            </p:nvSpPr>
            <p:spPr>
              <a:xfrm>
                <a:off x="6832440" y="2874600"/>
                <a:ext cx="63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30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ZoneTexte 14"/>
              <p:cNvSpPr/>
              <p:nvPr/>
            </p:nvSpPr>
            <p:spPr>
              <a:xfrm>
                <a:off x="7721280" y="3443400"/>
                <a:ext cx="63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70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Inhaltsplatzhalter 2"/>
            <p:cNvSpPr/>
            <p:nvPr/>
          </p:nvSpPr>
          <p:spPr>
            <a:xfrm>
              <a:off x="6787080" y="1642320"/>
              <a:ext cx="1414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 </a:t>
              </a:r>
              <a:r>
                <a:rPr b="1" lang="de-DE" sz="1800" spc="-1" strike="noStrike">
                  <a:solidFill>
                    <a:srgbClr val="1f497d"/>
                  </a:solidFill>
                  <a:latin typeface="Arial"/>
                  <a:ea typeface="MS PGothic"/>
                </a:rPr>
                <a:t>2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6452280" y="4642560"/>
              <a:ext cx="215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4f81bd"/>
                  </a:solidFill>
                  <a:latin typeface="Arial"/>
                  <a:ea typeface="MS PGothic"/>
                </a:rPr>
                <a:t>37 000 GW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e 30"/>
          <p:cNvGrpSpPr/>
          <p:nvPr/>
        </p:nvGrpSpPr>
        <p:grpSpPr>
          <a:xfrm>
            <a:off x="3419640" y="2852640"/>
            <a:ext cx="2376720" cy="863280"/>
            <a:chOff x="3419640" y="2852640"/>
            <a:chExt cx="2376720" cy="863280"/>
          </a:xfrm>
        </p:grpSpPr>
        <p:sp>
          <p:nvSpPr>
            <p:cNvPr id="167" name="ZoneTexte 23"/>
            <p:cNvSpPr/>
            <p:nvPr/>
          </p:nvSpPr>
          <p:spPr>
            <a:xfrm>
              <a:off x="3668400" y="2852640"/>
              <a:ext cx="21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Scénario propos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lèche droite rayée 28"/>
            <p:cNvSpPr/>
            <p:nvPr/>
          </p:nvSpPr>
          <p:spPr>
            <a:xfrm>
              <a:off x="3419640" y="3284280"/>
              <a:ext cx="2376720" cy="431640"/>
            </a:xfrm>
            <a:custGeom>
              <a:avLst/>
              <a:gdLst>
                <a:gd name="textAreaLeft" fmla="*/ 67320 w 2376720"/>
                <a:gd name="textAreaRight" fmla="*/ 2268720 w 2376720"/>
                <a:gd name="textAreaTop" fmla="*/ 108000 h 431640"/>
                <a:gd name="textAreaBottom" fmla="*/ 324000 h 431640"/>
              </a:gdLst>
              <a:ahLst/>
              <a:rect l="textAreaLeft" t="textAreaTop" r="textAreaRight" b="textAreaBottom"/>
              <a:pathLst>
                <a:path w="2376396" h="432048">
                  <a:moveTo>
                    <a:pt x="0" y="108012"/>
                  </a:moveTo>
                  <a:lnTo>
                    <a:pt x="13502" y="108012"/>
                  </a:lnTo>
                  <a:lnTo>
                    <a:pt x="13502" y="324036"/>
                  </a:lnTo>
                  <a:lnTo>
                    <a:pt x="0" y="324036"/>
                  </a:lnTo>
                  <a:close/>
                  <a:moveTo>
                    <a:pt x="27003" y="108012"/>
                  </a:moveTo>
                  <a:lnTo>
                    <a:pt x="54006" y="108012"/>
                  </a:lnTo>
                  <a:lnTo>
                    <a:pt x="54006" y="324036"/>
                  </a:lnTo>
                  <a:lnTo>
                    <a:pt x="27003" y="324036"/>
                  </a:lnTo>
                  <a:close/>
                  <a:moveTo>
                    <a:pt x="67507" y="108012"/>
                  </a:moveTo>
                  <a:lnTo>
                    <a:pt x="2160372" y="108012"/>
                  </a:lnTo>
                  <a:lnTo>
                    <a:pt x="2160372" y="0"/>
                  </a:lnTo>
                  <a:lnTo>
                    <a:pt x="2376396" y="216024"/>
                  </a:lnTo>
                  <a:lnTo>
                    <a:pt x="2160372" y="432048"/>
                  </a:lnTo>
                  <a:lnTo>
                    <a:pt x="2160372" y="324036"/>
                  </a:lnTo>
                  <a:lnTo>
                    <a:pt x="67507" y="324036"/>
                  </a:lnTo>
                  <a:close/>
                </a:path>
              </a:pathLst>
            </a:custGeom>
            <a:solidFill>
              <a:srgbClr val="c0504d"/>
            </a:solidFill>
            <a:ln w="25560">
              <a:solidFill>
                <a:srgbClr val="8c38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31"/>
          <p:cNvSpPr/>
          <p:nvPr/>
        </p:nvSpPr>
        <p:spPr>
          <a:xfrm>
            <a:off x="577800" y="260280"/>
            <a:ext cx="794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</a:rPr>
              <a:t>Mix pour la production électrique en 20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onnecteur droit 27"/>
          <p:cNvSpPr/>
          <p:nvPr/>
        </p:nvSpPr>
        <p:spPr>
          <a:xfrm>
            <a:off x="-14400" y="105264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ZoneTexte 5"/>
          <p:cNvSpPr/>
          <p:nvPr/>
        </p:nvSpPr>
        <p:spPr>
          <a:xfrm>
            <a:off x="533520" y="11253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4f81bd"/>
                </a:solidFill>
                <a:latin typeface="Baskerville Old Face"/>
              </a:rPr>
              <a:t>30%</a:t>
            </a:r>
            <a:r>
              <a:rPr b="1" lang="fr-FR" sz="2000" spc="-1" strike="noStrike">
                <a:solidFill>
                  <a:srgbClr val="002060"/>
                </a:solidFill>
                <a:latin typeface="Bell MT"/>
              </a:rPr>
              <a:t> d’électricité par les énergies renouvelables  en </a:t>
            </a:r>
            <a:r>
              <a:rPr b="1" lang="fr-FR" sz="2400" spc="-1" strike="noStrike">
                <a:solidFill>
                  <a:srgbClr val="002060"/>
                </a:solidFill>
                <a:latin typeface="Baskerville Old Face"/>
              </a:rPr>
              <a:t>20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ZoneTexte 21"/>
          <p:cNvSpPr/>
          <p:nvPr/>
        </p:nvSpPr>
        <p:spPr>
          <a:xfrm>
            <a:off x="324000" y="2317680"/>
            <a:ext cx="4011480" cy="4143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Part  des ER dans le mix électr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oneTexte 24"/>
          <p:cNvSpPr/>
          <p:nvPr/>
        </p:nvSpPr>
        <p:spPr>
          <a:xfrm>
            <a:off x="702360" y="6237360"/>
            <a:ext cx="7745760" cy="398880"/>
          </a:xfrm>
          <a:prstGeom prst="rect">
            <a:avLst/>
          </a:prstGeom>
          <a:solidFill>
            <a:srgbClr val="008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Investissement nécessaire cumulé :  2020 – 3 680 M€ / 2030 – 6 340 M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Graphique 26"/>
          <p:cNvGraphicFramePr/>
          <p:nvPr/>
        </p:nvGraphicFramePr>
        <p:xfrm>
          <a:off x="324000" y="2820960"/>
          <a:ext cx="403200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Graphique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820960"/>
                    <a:ext cx="403200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ZoneTexte 27"/>
          <p:cNvSpPr/>
          <p:nvPr/>
        </p:nvSpPr>
        <p:spPr>
          <a:xfrm>
            <a:off x="4716360" y="2317680"/>
            <a:ext cx="4011840" cy="4143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apacités ER à installer (M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Graphique 28" descr=""/>
          <p:cNvPicPr/>
          <p:nvPr/>
        </p:nvPicPr>
        <p:blipFill>
          <a:blip r:embed="rId3"/>
          <a:stretch/>
        </p:blipFill>
        <p:spPr>
          <a:xfrm>
            <a:off x="4788000" y="2820960"/>
            <a:ext cx="3960720" cy="2608200"/>
          </a:xfrm>
          <a:prstGeom prst="rect">
            <a:avLst/>
          </a:prstGeom>
          <a:ln w="0">
            <a:noFill/>
          </a:ln>
        </p:spPr>
      </p:pic>
      <p:sp>
        <p:nvSpPr>
          <p:cNvPr id="178" name="Chevron 31"/>
          <p:cNvSpPr/>
          <p:nvPr/>
        </p:nvSpPr>
        <p:spPr>
          <a:xfrm>
            <a:off x="826920" y="126828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6" y="0"/>
                </a:lnTo>
                <a:lnTo>
                  <a:pt x="21600" y="10800"/>
                </a:lnTo>
                <a:lnTo>
                  <a:pt x="14846" y="21600"/>
                </a:lnTo>
                <a:lnTo>
                  <a:pt x="0" y="21600"/>
                </a:lnTo>
                <a:lnTo>
                  <a:pt x="6754" y="108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1"/>
          <p:cNvSpPr/>
          <p:nvPr/>
        </p:nvSpPr>
        <p:spPr>
          <a:xfrm>
            <a:off x="519120" y="16020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</a:rPr>
              <a:t>Objectifs de Développement des 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onnecteur droit 14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Espace réservé du contenu 3" descr=""/>
          <p:cNvPicPr/>
          <p:nvPr/>
        </p:nvPicPr>
        <p:blipFill>
          <a:blip r:embed="rId1"/>
          <a:stretch/>
        </p:blipFill>
        <p:spPr>
          <a:xfrm>
            <a:off x="1000080" y="1214280"/>
            <a:ext cx="7072200" cy="47149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1"/>
          <p:cNvSpPr/>
          <p:nvPr/>
        </p:nvSpPr>
        <p:spPr>
          <a:xfrm>
            <a:off x="519120" y="160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</a:rPr>
              <a:t>Prévision de la capacité électrique installée d’origine renouvelable par filière  en Tun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onnecteur droit 5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oneTexte 6"/>
          <p:cNvSpPr/>
          <p:nvPr/>
        </p:nvSpPr>
        <p:spPr>
          <a:xfrm>
            <a:off x="428760" y="6143760"/>
            <a:ext cx="8351640" cy="398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olien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755 MW / 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olaire PV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510 MW / 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SP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450 MW / 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Biomass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0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Espace réservé du contenu 3" descr=""/>
          <p:cNvPicPr/>
          <p:nvPr/>
        </p:nvPicPr>
        <p:blipFill>
          <a:blip r:embed="rId1"/>
          <a:srcRect l="24085" t="16371" r="18023" b="2365"/>
          <a:stretch/>
        </p:blipFill>
        <p:spPr>
          <a:xfrm>
            <a:off x="2071800" y="2000160"/>
            <a:ext cx="4786200" cy="40006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1"/>
          <p:cNvSpPr/>
          <p:nvPr/>
        </p:nvSpPr>
        <p:spPr>
          <a:xfrm>
            <a:off x="519120" y="16020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</a:rPr>
              <a:t>Mix des énergies renouvelables en 20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onnecteur droit 4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00040" y="1811160"/>
            <a:ext cx="84297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Bell MT"/>
              </a:rPr>
              <a:t>Principaux tex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699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Bell MT"/>
              </a:rPr>
              <a:t> </a:t>
            </a:r>
            <a:r>
              <a:rPr b="0" lang="fr-FR" sz="2000" spc="-1" strike="noStrike">
                <a:solidFill>
                  <a:srgbClr val="0033cc"/>
                </a:solidFill>
                <a:latin typeface="Bell MT"/>
              </a:rPr>
              <a:t>La loi n° 2009-7 du 9 février 2009 modifiant et complétant la loi n° 2004-72 du 2 août 2004  relative à la maîtrise de l’énerg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699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Bell MT"/>
              </a:rPr>
              <a:t>Loi n° 2015-12 du 11 mai 2015, relative à la production d'électricité à partir des énergies renouvel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699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Bell MT"/>
              </a:rPr>
              <a:t>Le décret n° 2016-1123 du 24 aout 2016 fixant les conditions et les procédures de réalisation des projets de production et de vente de l’électricité à partir des énergies renouvel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699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Bell MT"/>
              </a:rPr>
              <a:t>Le décret n° 2009-362 du 9 février 2009 modifiant et complétant le décret n° 2005-2234 du 22 août 2005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699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699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519120" y="160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  <a:ea typeface="Arial"/>
              </a:rPr>
              <a:t>L’outil législatif et réglem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onnecteur droit 5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8T07:51:16Z</dcterms:created>
  <dc:creator>mohamed amine samet</dc:creator>
  <dc:description/>
  <dc:language>en-US</dc:language>
  <cp:lastModifiedBy>KarimN</cp:lastModifiedBy>
  <cp:lastPrinted>2016-01-11T16:00:34Z</cp:lastPrinted>
  <dcterms:modified xsi:type="dcterms:W3CDTF">2016-10-20T07:17:59Z</dcterms:modified>
  <cp:revision>2534</cp:revision>
  <dc:subject/>
  <dc:title>Diapositive 1</dc:title>
</cp:coreProperties>
</file>